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CCCC-4542-4168-A9B1-77B41DDA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288-2102-439E-86B2-10257064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4FBF-C96C-48F6-B5F7-194C8707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1111-4388-450B-9689-EFE3681E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938-D11C-4613-B5DD-20744251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42E4-694E-42DF-AD11-D232707D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AA5-CF4A-4696-B644-54C45DC7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8A3-95CF-4355-8CF5-8E340DBB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941-F451-4428-BBB1-9851A63B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0840-002B-4D69-B9BD-A5A6BFAA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8B07-A0CD-46DC-BFBC-A0DBA671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3243-BB18-4DE9-A3AE-87F09337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D59C-F89C-44FD-A4CA-88327E7BA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b of God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Lamb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bearer of our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redeemer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0199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0:44Z</dcterms:created>
  <dc:creator>Anon Anon</dc:creator>
  <dc:description/>
  <dc:language>en-US</dc:language>
  <cp:lastModifiedBy>Anon Anon</cp:lastModifiedBy>
  <dcterms:modified xsi:type="dcterms:W3CDTF">2005-08-16T04:24:02Z</dcterms:modified>
  <cp:revision>10</cp:revision>
  <dc:subject/>
  <dc:title>PowerPoint Presentation</dc:title>
</cp:coreProperties>
</file>